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96A-6953-44BB-866D-ABDBD2FE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CFE-8FF3-4574-A7D7-1264FBC2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7A6-8C8A-4762-853B-73F291AB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6D9-39DD-473C-ADC0-179A2B12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4A2-973C-4715-9EF1-B0A37C99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FAF-7D37-4C41-9B4A-270FFBD0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79A-FD8C-4213-96F9-C01CA2DF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2FE-6E70-4B10-8B46-D3A425A9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455-F73E-48CB-893A-5C7D5A3A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971-DA42-48C5-BCB0-030B28C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01B-19D7-4ADC-A0FB-E8426E14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C2C-A285-44A1-8C85-DE3F164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C192-BABB-4D37-A29E-09799B59D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9:18:57Z</dcterms:created>
  <dc:creator>abeason</dc:creator>
  <dc:description/>
  <dc:language>en-US</dc:language>
  <cp:lastModifiedBy>abeason</cp:lastModifiedBy>
  <dcterms:modified xsi:type="dcterms:W3CDTF">2009-01-07T19:19:00Z</dcterms:modified>
  <cp:revision>1</cp:revision>
  <dc:subject/>
  <dc:title>Slide 1</dc:title>
</cp:coreProperties>
</file>